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56D-155E-45EA-AAA6-84DB4F29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24F-B9AE-4105-8A66-EF8964C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DDF-634A-4B3D-8F73-407E89E7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0D2-CBA2-476D-919D-E82B5587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1F8-B484-4AD4-95F2-D441FCEB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DE0-272F-4DC8-8418-7D2E71A1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FC5-AAB6-48EC-897F-43B24CB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5AA-5FD7-477F-B91D-00823B0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38F-F109-4E8F-8513-4595BEF0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525-49D0-4DE5-8CB1-20691AF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E45-1B03-4D27-A421-54E4D6DC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A18-7502-4490-844F-B11FB8E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80B8-9709-44DF-89BC-0AB0AB23C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2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54:09Z</dcterms:created>
  <dc:creator>USER</dc:creator>
  <dc:description/>
  <dc:language>en-US</dc:language>
  <cp:lastModifiedBy>USER</cp:lastModifiedBy>
  <dcterms:modified xsi:type="dcterms:W3CDTF">2002-11-01T02:54:20Z</dcterms:modified>
  <cp:revision>1</cp:revision>
  <dc:subject/>
  <dc:title>PowerPoint Presentation</dc:title>
</cp:coreProperties>
</file>